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E03-BCFB-43E5-91FE-0FC8F10F8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CC4-ACEF-4DD6-8371-F3D9A7C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EA9-F105-4BF0-B792-E8EBDF86D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5687-9097-430B-8295-68380420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8BE-47FD-40C2-9518-60D771C4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5F4-E23D-4E71-A83E-AE6F74E3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4A8D-C1DD-412F-A3CE-4FB12DA5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587-4CCE-4142-A0AA-2E705B23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B4A1-A455-4C26-A528-5F7C3E19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9E8F-2293-418F-93FB-AD77231A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9D76-2003-492A-A2E5-32F04418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FFA-7D1B-4A59-828E-07010F2F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57E1-F86F-4C91-A1DB-19A7B1B879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bioontology.org/wiki/index.php/OCI:Main_Page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3749" t="16796" r="14791" b="72838"/>
          <a:stretch/>
        </p:blipFill>
        <p:spPr>
          <a:xfrm>
            <a:off x="0" y="927000"/>
            <a:ext cx="9144000" cy="795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Communities and Struc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13749" t="38979" r="15627" b="5729"/>
          <a:stretch/>
        </p:blipFill>
        <p:spPr>
          <a:xfrm>
            <a:off x="0" y="1727280"/>
            <a:ext cx="9144000" cy="507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38160" y="1752480"/>
            <a:ext cx="907740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186480" indent="-1864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1.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1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Coordination Committee (CC)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  <a:ea typeface="굴림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Representatives of the communities -&gt; Monthly confer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772080" y="2816280"/>
            <a:ext cx="55814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</a:rPr>
              <a:t>2. Developers WG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CC and other communities’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굴림"/>
              </a:rPr>
              <a:t>Weekly 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conferences 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429240" y="3114720"/>
            <a:ext cx="9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2160" y="5346720"/>
            <a:ext cx="140004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167400" indent="-167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f1b45"/>
                </a:solidFill>
                <a:latin typeface="Trebuchet MS"/>
              </a:rPr>
              <a:t>3. Advisors</a:t>
            </a:r>
            <a:r>
              <a:rPr b="0" lang="en-US" sz="1600" spc="-1" strike="noStrike">
                <a:solidFill>
                  <a:srgbClr val="af1b45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666720" y="2486160"/>
            <a:ext cx="8392680" cy="4310640"/>
            <a:chOff x="666720" y="2486160"/>
            <a:chExt cx="8392680" cy="4310640"/>
          </a:xfrm>
        </p:grpSpPr>
        <p:grpSp>
          <p:nvGrpSpPr>
            <p:cNvPr id="49" name=""/>
            <p:cNvGrpSpPr/>
            <p:nvPr/>
          </p:nvGrpSpPr>
          <p:grpSpPr>
            <a:xfrm>
              <a:off x="2976480" y="2486160"/>
              <a:ext cx="6082920" cy="4310640"/>
              <a:chOff x="2976480" y="2486160"/>
              <a:chExt cx="6082920" cy="4310640"/>
            </a:xfrm>
          </p:grpSpPr>
          <p:pic>
            <p:nvPicPr>
              <p:cNvPr id="5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00240" y="2486160"/>
                <a:ext cx="6049080" cy="36727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2976480" y="6152400"/>
                <a:ext cx="6082920" cy="644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  <a:ea typeface="굴림"/>
                  </a:rPr>
                  <a:t>-&gt; cBiO will oversee the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rebuchet MS"/>
                    <a:ea typeface="굴림"/>
                  </a:rPr>
                  <a:t>Open BioMedical Ontology (OBO) initiativ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666720" y="6019920"/>
              <a:ext cx="2222640" cy="546120"/>
              <a:chOff x="666720" y="6019920"/>
              <a:chExt cx="2222640" cy="546120"/>
            </a:xfrm>
          </p:grpSpPr>
          <p:sp>
            <p:nvSpPr>
              <p:cNvPr id="53" name=""/>
              <p:cNvSpPr/>
              <p:nvPr/>
            </p:nvSpPr>
            <p:spPr>
              <a:xfrm>
                <a:off x="666720" y="6019920"/>
                <a:ext cx="55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66720" y="6210360"/>
                <a:ext cx="63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66720" y="6566040"/>
                <a:ext cx="67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219320" y="6019920"/>
                <a:ext cx="939600" cy="26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89160" y="6203880"/>
                <a:ext cx="87624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1333440" y="6280200"/>
                <a:ext cx="83196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71880" y="6280200"/>
                <a:ext cx="717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udy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criptive research – research in which the investigator attempts to describe a group of individuals based on a set of variable in order to document their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e study – description of one or more pati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mental research – description of pattern of change over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tive research – establishing normal val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litative research – gathering data through interview or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aluation research – objectively assess a program or policy by describing the needs for the services or policy, often using surveys or questionna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loratory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hort or case-control studies – establish associations through epidemiological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hodological studies – establish reliability and validity of a new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analysis – exploring new relationships in ol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torical research – reconstructing the past through an assessment of archives or other reco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erimental 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domized clinical trial – controlled comparison of an experimental intervention allowing the assessment of the causes of outco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-subject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uential clinical t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aluation research – assessment of the success of a program or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i-experimental re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-analysis – statistically combining findings from several different studies to obtain a summary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5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81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ruit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ndomiz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roll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igible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reened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mature termination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luded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luded post-randomization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randomized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enrolled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-eligible-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zed-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su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udy arm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over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group pop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nt-to-treat population - based on random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-protocol population - exclude those with serious protocol viol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mony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s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A subset of a larger population, selected for investigation to draw conclusions or make estimates about the larger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The number of subjects in a clinical tr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Number of subjects required for primary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</a:t>
            </a:r>
            <a:r>
              <a:rPr b="0" lang="en-GB" sz="30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Heterogeneity but for G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990720"/>
            <a:ext cx="881388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Diverse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mics 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andardization effort people (MGED, PSI, M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eople ‘running’ (public) repositories, primary + secondary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Software engineers, modellers, biologists, data-mi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eople from the semantic web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Vendors and manufacturers (ne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Different maturity s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ome needs to ‘rebuild’, e.g. MGED Ont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ome are starting now, e.g. M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Plurality of (prospective) u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riving data entry and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Indexing of experimental data, minimal information lists, x-db qu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pplying it to text-m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Benchmarking, enrichment,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Encoding facts from lit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Building knowledge bases relying on RDF triple s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Development Strateg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914400"/>
            <a:ext cx="8813880" cy="60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Collaborative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Decide on a</a:t>
            </a:r>
            <a:r>
              <a:rPr b="0" lang="en-GB" sz="22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he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top-level ontology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to hook-up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Leverage on Basic Formal Ontology (B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Agree on an initial structure (trunk) with is_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Rely on Relation Ontology (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&gt; part_of (currently expressed in the taxonomy as cardinal_part_o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-&gt; participates_in (input) and derives_from (output), located_in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gree on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naming convention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nd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Times New Roman"/>
              </a:rPr>
              <a:t>metadata ta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Common working practices, for building, editing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6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Within community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Collect use cases: real examples and potential usage of the ontology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Gather terms and definitions: the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bottom-up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Branch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Split the development in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branche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for focused working grou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BioMaterial, Data Transformation, Instr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lan (design and protocol), Role, Protocol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Plan for distributed development: SVN, import functions, mer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Tools and Document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2920" y="920880"/>
            <a:ext cx="900108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9000"/>
          </a:bodyPr>
          <a:p>
            <a:pPr marL="150120" indent="-150120">
              <a:lnSpc>
                <a:spcPct val="10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Open source, standards compliant and version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00600" indent="80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ntology Web Language (OWL) using Protégé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0600" indent="802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BI.owl files are available from the OBI SVN Reposi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7240" y="2022480"/>
            <a:ext cx="9010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Top Level Clas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7080" y="1279440"/>
            <a:ext cx="8864640" cy="545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Continua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 entity that endure/remains the same through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Independent Continuant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tands on its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ll physical entities (instrument, technology platform, document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Biological material (organism, population etc.)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Dependent Continua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heres from another 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Environment (depend on the set of ranges of conditions, e.g. geographic loc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Characteristics (entity that can be measured, e.g. temperature, un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- Realizable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an entity that is realized through a process</a:t>
            </a:r>
            <a:r>
              <a:rPr b="0" lang="en-GB" sz="18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(executed/ru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Software (a set of machine instru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Design (the plan that can be realized in a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95256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Role (the part played by an entity within the context of a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Occurren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: </a:t>
            </a:r>
            <a:r>
              <a:rPr b="0" i="1" lang="en-GB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an entity that occurs/unfolds i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Temporal Regions, Spatio-Temporal Regions (single actions or Ev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80000"/>
              </a:lnSpc>
              <a:spcBef>
                <a:spcPts val="1250"/>
              </a:spcBef>
              <a:buClr>
                <a:srgbClr val="af1b45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Process</a:t>
            </a:r>
            <a:r>
              <a:rPr b="1" lang="en-GB" sz="20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Investigation (the entire ‘experimental’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000000"/>
                </a:solidFill>
                <a:uFillTx/>
                <a:latin typeface="Trebuchet MS"/>
                <a:ea typeface="Times New Roman"/>
              </a:rPr>
              <a:t>E.g.</a:t>
            </a:r>
            <a:r>
              <a:rPr b="0" lang="en-GB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Assay (process of performing some tests and recording the result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– Main Activities and Timeli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440" y="941400"/>
            <a:ext cx="8991720" cy="573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Continue branches activities </a:t>
            </a:r>
            <a:r>
              <a:rPr b="0" i="1" lang="en-GB" sz="2000" spc="-1" strike="noStrike">
                <a:solidFill>
                  <a:srgbClr val="af1b45"/>
                </a:solidFill>
                <a:latin typeface="Trebuchet MS"/>
              </a:rPr>
              <a:t>(iterative proc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Branches editors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collect terms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from the communities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</a:rPr>
              <a:t>APRIL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Sort terms by relevance to one or other branch, or to other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Normalize terms, add metadata tags (e.g. definition and sour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Bin terms into the relevant top level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Finalize the first draft of OBI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view branches and m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erge with the trunk into a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core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</a:rPr>
              <a:t>JULY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- 4</a:t>
            </a:r>
            <a:r>
              <a:rPr b="0" lang="en-GB" sz="18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 Face-2-face workshop for Coordinators and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Test the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first draft of OBI C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Out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to user communities for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testing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OCTOBER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- Set up tracker tool for gathering comments and sugg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716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Enrich the ont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12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Branches editors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  <a:ea typeface="Lucida Sans Unicode"/>
              </a:rPr>
              <a:t>collect other </a:t>
            </a:r>
            <a:r>
              <a:rPr b="0" lang="en-GB" sz="2000" spc="-1" strike="noStrike">
                <a:solidFill>
                  <a:srgbClr val="333399"/>
                </a:solidFill>
                <a:latin typeface="Trebuchet MS"/>
              </a:rPr>
              <a:t>terms 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(</a:t>
            </a:r>
            <a:r>
              <a:rPr b="0" lang="en-GB" sz="18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OCTOBER 07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Lay out landscape of missing communities</a:t>
            </a:r>
            <a:r>
              <a:rPr b="1" lang="en-GB" sz="2200" spc="-1" strike="noStrike">
                <a:solidFill>
                  <a:srgbClr val="af1b45"/>
                </a:solidFill>
                <a:latin typeface="Trebuchet MS"/>
                <a:ea typeface="Lucida Sans Unicod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6000" indent="164880">
              <a:lnSpc>
                <a:spcPct val="7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Recruit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Lucida Sans Unicode"/>
              </a:rPr>
              <a:t> new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parency and inclusivity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bioontology.org/wiki/index.php/OCI:Main_P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Google “OCI wiki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d top down/bottom up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d term 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hom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synony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gned membership into BFO/OBI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on terms within bran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CI 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8520" y="936720"/>
            <a:ext cx="4840200" cy="4632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05280" y="1770120"/>
            <a:ext cx="5095800" cy="496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28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rm 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320" y="1407960"/>
            <a:ext cx="350676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968480" y="1612800"/>
            <a:ext cx="33526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9" name="" descr=""/>
          <p:cNvPicPr/>
          <p:nvPr/>
        </p:nvPicPr>
        <p:blipFill>
          <a:blip r:embed="rId3"/>
          <a:srcRect l="0" t="0" r="0" b="11599"/>
          <a:stretch/>
        </p:blipFill>
        <p:spPr>
          <a:xfrm>
            <a:off x="3808440" y="1855800"/>
            <a:ext cx="2549520" cy="45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4"/>
          <a:srcRect l="0" t="0" r="35895" b="0"/>
          <a:stretch/>
        </p:blipFill>
        <p:spPr>
          <a:xfrm>
            <a:off x="5402160" y="2162160"/>
            <a:ext cx="3632400" cy="43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31:52Z</dcterms:modified>
  <cp:revision>42</cp:revision>
  <dc:subject/>
  <dc:title>CTO - Clinical Trials/Research in the Ontology of Biomedical Investigation</dc:title>
</cp:coreProperties>
</file>